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004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2800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C32051-40AC-4C04-857A-A6C4AC8CF9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308FA9-8168-40BF-BB82-8E28ADCC35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D2E1E03-3312-4B60-8BEF-0576F87A92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BE124BF-627B-4D8E-865A-EECDF9C483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F6EBC7C-0D69-47E9-B04F-DDAB088CD1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542EAE-4595-456F-978C-E03DF66009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FF841D-53DE-48DB-AE32-81317478BC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46B58B2-284B-490D-AF13-AD6647BB3F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AD7F7D0-15E2-45D1-810E-13FEBBD5D5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93FE2-99EE-4B01-AED6-E8F876C69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256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436D4-94AD-4C50-978B-A5E52F439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70859-52A1-4162-B3A9-7CB5AFE45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25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25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782B7-DB48-4778-A26B-84AE65CC5A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14C9-170E-4E20-BD52-12D083B39C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61A1-10BC-40FD-8D6C-00E96A0C0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2833-68C7-4553-8D12-0E8C1565E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4E6EF-E277-4633-93EA-57BCB960A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4B32-B299-4340-A644-F7EC48246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95570-681A-4813-9C95-5AB24938B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6C4C-DF2E-431C-B266-2FEF346E4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8A61-F24A-41B8-8AFF-FD7186551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61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93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592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F4F755D-E5AB-4C83-9F4D-EEE0103137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328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6000" spc="-1" strike="noStrike">
                <a:solidFill>
                  <a:srgbClr val="000080"/>
                </a:solidFill>
                <a:latin typeface="Arial"/>
              </a:rPr>
              <a:t>BIE578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3280" y="1371600"/>
            <a:ext cx="907236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216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msgothic"/>
              </a:rPr>
              <a:t>Aula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214200" algn="ctr">
              <a:lnSpc>
                <a:spcPct val="93000"/>
              </a:lnSpc>
              <a:tabLst>
                <a:tab algn="l" pos="0"/>
                <a:tab algn="l" pos="216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16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16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msgothic"/>
              </a:rPr>
              <a:t>Reamostragem e Simul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3280" y="33660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mentação Analí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2040" y="1674720"/>
            <a:ext cx="944892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Monte Car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280099"/>
                </a:solidFill>
                <a:latin typeface="Courier New"/>
              </a:rPr>
              <a:t>simulação de uma distribuição </a:t>
            </a:r>
            <a:r>
              <a:rPr b="1" lang="en-US" sz="3200" spc="-1" strike="noStrike">
                <a:solidFill>
                  <a:srgbClr val="280099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280099"/>
                </a:solidFill>
                <a:latin typeface="Courier New"/>
              </a:rPr>
              <a:t>conhecida, ou mais gera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Reamostrag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280099"/>
                </a:solidFill>
                <a:latin typeface="Courier New"/>
              </a:rPr>
              <a:t>utiliza os dados para gerar </a:t>
            </a:r>
            <a:r>
              <a:rPr b="1" lang="en-US" sz="3200" spc="-1" strike="noStrike">
                <a:solidFill>
                  <a:srgbClr val="280099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280099"/>
                </a:solidFill>
                <a:latin typeface="Courier New"/>
              </a:rPr>
              <a:t>distribuições n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Bootstrap e Jackkni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280099"/>
                </a:solidFill>
                <a:latin typeface="Courier New"/>
              </a:rPr>
              <a:t>estima intervalos de confiança </a:t>
            </a:r>
            <a:r>
              <a:rPr b="1" lang="en-US" sz="3200" spc="-1" strike="noStrike">
                <a:solidFill>
                  <a:srgbClr val="280099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280099"/>
                </a:solidFill>
                <a:latin typeface="Courier New"/>
              </a:rPr>
              <a:t>de  </a:t>
            </a:r>
            <a:r>
              <a:rPr b="1" lang="en-US" sz="3200" spc="-1" strike="noStrike">
                <a:solidFill>
                  <a:srgbClr val="280099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280099"/>
                </a:solidFill>
                <a:latin typeface="Courier New"/>
              </a:rPr>
              <a:t>um parâme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6800" y="1905120"/>
            <a:ext cx="8236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Conjunto de métodos onde os dados são aleatorizados ou rearranjados para simular situaçãos esperadas pela H</a:t>
            </a:r>
            <a:r>
              <a:rPr b="1" lang="en-GB" sz="4000" spc="-1" strike="noStrike" baseline="-25000">
                <a:solidFill>
                  <a:srgbClr val="280099"/>
                </a:solidFill>
                <a:latin typeface="Courier New"/>
              </a:rPr>
              <a:t>0</a:t>
            </a: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64960"/>
            <a:ext cx="85471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nte Car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6800" y="1905120"/>
            <a:ext cx="8236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Não há o necessidade de assumir um tipo de distribuição de probabilidades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INTUITIVA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264960"/>
            <a:ext cx="85471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amostragem e Simul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44680" y="1905120"/>
            <a:ext cx="89154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buClr>
                <a:srgbClr val="000000"/>
              </a:buClr>
              <a:buSzPct val="45000"/>
              <a:buFont typeface="Courier Ne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dificuldade computa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buClr>
                <a:srgbClr val="000000"/>
              </a:buClr>
              <a:buSzPct val="45000"/>
              <a:buFont typeface="Courier Ne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resultado pode variar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buClr>
                <a:srgbClr val="000000"/>
              </a:buClr>
              <a:buSzPct val="45000"/>
              <a:buFont typeface="Courier Ne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domínio de inferência </a:t>
            </a: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restr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- demanda um cenário nulo </a:t>
            </a: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adequa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64960"/>
            <a:ext cx="85471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amostragem e Simul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44680" y="1722600"/>
            <a:ext cx="8915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buClr>
                <a:srgbClr val="000000"/>
              </a:buClr>
              <a:buSzPct val="45000"/>
              <a:buFont typeface="Courier New"/>
              <a:buChar char="-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 </a:t>
            </a: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amostras aleatórias e </a:t>
            </a: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	</a:t>
            </a: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independ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buClr>
                <a:srgbClr val="000000"/>
              </a:buClr>
              <a:buSzPct val="45000"/>
              <a:buFont typeface="Courier New"/>
              <a:buChar char="-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 </a:t>
            </a: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a estatística descreve o </a:t>
            </a: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	</a:t>
            </a: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padrão de inter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buClr>
                <a:srgbClr val="000000"/>
              </a:buClr>
              <a:buSzPct val="45000"/>
              <a:buFont typeface="Courier New"/>
              <a:buChar char="-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i="1" lang="en-GB" sz="4000" spc="-1" strike="noStrike">
                <a:solidFill>
                  <a:srgbClr val="280099"/>
                </a:solidFill>
                <a:latin typeface="Courier New"/>
              </a:rPr>
              <a:t> </a:t>
            </a: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o cenário nulo descreve o </a:t>
            </a: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	</a:t>
            </a: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padrão de inter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3280" y="0"/>
            <a:ext cx="85467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ssup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264960"/>
            <a:ext cx="907236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atro Passo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874880"/>
            <a:ext cx="9612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741240" indent="-741240">
              <a:lnSpc>
                <a:spcPct val="89000"/>
              </a:lnSpc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280099"/>
                </a:solidFill>
                <a:latin typeface="Courier New"/>
              </a:rPr>
              <a:t>1. Definir a estatística de interes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89000"/>
              </a:lnSpc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280099"/>
                </a:solidFill>
                <a:latin typeface="Courier New"/>
              </a:rPr>
              <a:t>2. Criar a distribuição esperada para H</a:t>
            </a:r>
            <a:r>
              <a:rPr b="1" lang="en-US" sz="4400" spc="-1" strike="noStrike" baseline="-25000">
                <a:solidFill>
                  <a:srgbClr val="280099"/>
                </a:solidFill>
                <a:latin typeface="Courier New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89000"/>
              </a:lnSpc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280099"/>
                </a:solidFill>
                <a:latin typeface="Courier New"/>
              </a:rPr>
              <a:t>3. Uni ou bi-caud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89000"/>
              </a:lnSpc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280099"/>
                </a:solidFill>
                <a:latin typeface="Courier New"/>
              </a:rPr>
              <a:t>4. Comparar o valor observado e calcular “p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89000"/>
              </a:lnSpc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89000"/>
              </a:lnSpc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89000"/>
              </a:lnSpc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03280" y="157320"/>
            <a:ext cx="907092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4400" spc="-1" strike="noStrike">
                <a:solidFill>
                  <a:srgbClr val="c00000"/>
                </a:solidFill>
                <a:latin typeface="Arial"/>
              </a:rPr>
              <a:t>sample()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Estrutura Básic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3440" y="2187720"/>
            <a:ext cx="991728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sample(x, size, replace = FALSE,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prob = NU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3280" y="150840"/>
            <a:ext cx="90723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alibri"/>
              </a:rPr>
              <a:t>Depois de fazer a primeira Função no  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135240" y="2021040"/>
            <a:ext cx="4545000" cy="5538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87880" y="2179800"/>
            <a:ext cx="27432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u posso dominar o mundo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exandre</dc:creator>
  <dc:description/>
  <dc:language>en-US</dc:language>
  <cp:lastModifiedBy>Alexandre</cp:lastModifiedBy>
  <dcterms:modified xsi:type="dcterms:W3CDTF">2009-03-20T09:33:31Z</dcterms:modified>
  <cp:revision>207</cp:revision>
  <dc:subject/>
  <dc:title>BIE5782</dc:title>
</cp:coreProperties>
</file>